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2F5-2299-446D-9D2D-0ED251F3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49C-6445-4056-BD53-B313D65F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465E2-4305-4432-B7C3-3012A36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7E0F8-E8A8-438B-BEDE-0C002726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1611-B676-47DB-9336-C0D8B47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5AF3A-D2A4-431D-8151-41AF252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E5C1C-E327-4D81-A9D2-0185728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30EAA-AC3D-4CA3-A04D-01A4A05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4BAAF-67EE-4EB0-A6BA-04CA08C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AFE30-D28E-4229-A71B-6ACD85BF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3C818-41B4-4198-AAED-80C0BF93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6F2A1-6407-43E0-929F-1D3612A8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D74-7F5B-4681-84B7-9F2F584F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27342-5395-4F7F-AB3D-D8AF5FC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29553-D16C-4344-A31A-56EDFE1E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00FD4-689C-4992-A044-0D1FF75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7E37D-31C1-4C8E-9C58-BAF4805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8B5E7-B0AD-49E6-AFC2-F549C8DF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E6BF2-12B3-4C0B-80DD-37B81F1C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F377D-CA91-4E06-B489-108A26E3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47D36-64EC-46EA-9DCD-23EA874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7049E-F665-4B38-993A-86CBD839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1BE9E-BD3E-4FEB-AE79-FE301942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3D9-981D-4366-9E79-3E084F54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94337-3B51-47EE-82F1-B325334D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EFE1-C8A2-497E-92A9-9A85730A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3B1B0-B29C-45AF-845D-21ADD41D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B3735-6964-4A1C-978B-CCA74D9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2178D-E237-4F81-B835-09855F50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D06FC-9610-453D-8082-212EA20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30F26-6D5F-4135-ACBB-CF7A02EC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B4DE4-7DE0-40FB-AE06-7906A08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06512-80A2-4D2C-B586-1E987CC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00749-E498-4F34-A0DC-A5DBBC2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925-C81E-4EE4-8910-50088DC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A035-40A8-47D9-ABBC-1C9BA005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49791-110B-4597-9E88-5EA755BE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C275-D7BF-4D5B-BE8E-C5B28F55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17A8-4E92-4187-9AA1-3FB42806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5EF00-E0C5-45C5-BD1D-2E5A80AD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99870-9FB4-4133-80A8-2E2EFD81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4DBC9-F189-439B-9D7E-4B4E3F6C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DD294-9391-4412-81D3-10D7959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541E2-2112-4FCC-8937-473F10D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3003C-29FD-4DED-839A-8220C5C0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2CDC-59E4-4E35-B408-9D67E7D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1ED62-CA81-440C-8B96-EE72A689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94F35-869F-4198-B061-43442E2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FF270-AF68-4F2A-B77A-B84A8B6F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00385-3DD9-4533-BDCE-BBB6AB5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EA355-8624-42F9-A1F1-D6012F05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4E1F-CD62-4B48-BF30-7B75339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9BA-3263-43B6-B6F2-EFF62369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2CA8-9A96-451F-8298-AE22E846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85D-4223-48E0-9174-752A037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634-1D92-4CB6-8409-BDB1ADF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E2E-9AFF-4666-9C0E-EB7E51D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43C-BEA1-4E5F-B2D0-9DCE1E9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FCF4-2497-4273-AAB4-F2B93A3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0A50-A0E4-417A-9738-852A0980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CD7E-50EF-4B57-B805-7EE5AC30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2CC7-12EA-4F42-8C8B-85411529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C7F7-80A5-4D50-AC94-BA0D7D81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C6CA-2958-444D-B7FB-0B536A9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12F3-5F3B-40C2-B242-DD5FDECD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3F5B-5026-4798-89B3-79890D5D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BC68-793A-4CE7-8FB0-CB8FEFB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E13-0C97-4C06-B4E0-AC1F83D0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7FDB-D285-48CF-A377-F584E271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9AED-8A9E-4248-82D2-8F620D1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07B4-A06C-4E98-AF03-D0F33A3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39DE-7AF7-4095-A6ED-EE402AA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6D2B-DDAC-4EFD-A4D7-D763B78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3CD2-62DD-44CF-98F9-C1AA6F4A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EA79-52BA-4560-9F47-9A3218DE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708A-86FA-4E9D-8D7C-7BAB585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CF4A-92A5-4A44-800C-FC9EF41E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60DD-2FB3-44FB-8BA6-B61BB8E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228-D955-45B2-ACDC-50BB649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3F81-E992-4E5A-A68F-D64E5544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F13A-E3CF-4B4E-8B80-3B1F121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7404-3667-4DD0-AB30-2C40FD6A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22C8-49A4-4991-A850-B8677162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0D5D-9513-457B-AA18-A52FCD22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341B-C952-4065-B922-5264065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CB1F-0351-4A2B-B718-BAB195C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88E5-2042-4E33-9D93-E3BDEA5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56B8-8277-448B-9F0C-6BE73D4F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F0E49-2A28-4A04-A6EA-83FE0392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1D5-1D40-44DB-A403-A165F18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40CCA-148D-4162-9AD2-E961473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7325-3261-4170-9FAC-DA3D624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2129E-C430-4A39-95A8-A9457852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995E-E84C-4B11-AAE1-8A323CA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1853-5175-4BEA-8F91-B091791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0465-64B0-4F4D-B562-2D9AD28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1FF7-948C-4AE1-8B77-F7B2966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40EEC-BE57-4DCB-82BC-C0500D9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0366-C510-48D7-8CCD-1EE69B2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78AE0-D961-4D7A-BBE8-DAB02A78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B40-6C25-41DF-A496-48F8AC84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10F5-0A16-4C45-9FD6-6D3FB248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E100-D304-4146-BB1D-87E895D1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EF2C-8AAE-44C5-804F-89B31C4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6394-0DF3-435C-AD4F-7E044BDC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0747F-FCFB-4A2C-AD1F-2FFDE8C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4AA2-1BCF-44CC-B8A7-9552C3B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EDF2-5EE7-4C1A-A0E6-DA3EB0FA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A602-3D50-40DB-A4AF-C45A546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CFFF-752E-4AE3-B2A0-14888B5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97041-F924-40C9-A7D9-AAD736B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A85-402F-47E5-84D1-351AC99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A5861-8630-43F8-9198-AE2B065B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D0594-344E-4954-8226-4305D526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3E206-D46C-40A8-A6F0-DC699A65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6301E-60EF-4B44-90CF-68C3E1BB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5680-16A0-44CF-A910-D99C6AE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C806F-8897-4D16-B452-DD77FCBF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784DA-846B-4A60-ADD9-84460E2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4070-8AAB-4D12-8F90-C5D47E1C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638A-BC12-4D40-B1DF-B604FF6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04C0-1A04-4642-83AD-53CDCA6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4C4-EFB9-4F9F-8EE1-975FFC90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B0F4-1529-48D4-B04D-A0C8EFE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F3C3-3EAE-497C-9CBB-EE20424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01DEA-754E-4151-808F-0DE94FA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4B80-F0EB-4DB0-AE06-C67716C1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1CDC-44A3-4654-881F-A3A405AB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56E5D-AC41-4FBD-A7C0-1E4948F6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AE34-9801-4EFB-9048-D6BCCE8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BACB-E062-45F4-9BF8-BB74E491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758B-8865-476A-8280-86F46347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FDFAC-FFC6-4A34-B565-B6DAD4B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1DB-8201-4FBF-8CB0-C6EFDEA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F868-A963-41C3-9DB0-53906AA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A60E-24D0-46AB-A14C-B25D7892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56E1-6D6A-4F80-BE0F-291CCDCC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8A85B-74EE-4959-AEC2-ABF0159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A4432-4DDA-4669-86D5-0F2648D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3A27-C0E5-4384-A63F-B33FA101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9832-31DE-409C-A857-133CA0FA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9D83-9E06-4B9E-9E6E-C58F0917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44BD0-C932-46EE-B5D4-987061C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6BCAD-C460-4364-8E02-29C970D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DD5-B044-4A70-B7AC-0C6184DA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FFE1-F32B-4186-AB02-43D27568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2FF-A08D-4EB9-83E4-9626BB38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978E-F296-45E9-AA1B-877FF5CE5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D736-60A5-435B-BD76-E3CECE039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4AFF-70A2-4EC4-821B-4E307536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486A-E0E6-46DD-9A87-741DCE22C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08F-CAAD-417D-9B36-B107CE14B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22EA-1ACD-4CEB-B6C8-C745448A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666-81A0-4BE7-AFF0-B696A9468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9882-D75F-4070-9532-C4FEA259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7AEC-BA50-4ABF-9593-F189BF502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slide13.xml"/><Relationship Id="rId11" Type="http://schemas.openxmlformats.org/officeDocument/2006/relationships/slide" Target="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"/><Relationship Id="rId18" Type="http://schemas.openxmlformats.org/officeDocument/2006/relationships/slide" Target="slide21.xml"/><Relationship Id="rId19" Type="http://schemas.openxmlformats.org/officeDocument/2006/relationships/slide" Target=""/><Relationship Id="rId20" Type="http://schemas.openxmlformats.org/officeDocument/2006/relationships/slide" Target="slide23.xml"/><Relationship Id="rId21" Type="http://schemas.openxmlformats.org/officeDocument/2006/relationships/slide" Target=""/><Relationship Id="rId22" Type="http://schemas.openxmlformats.org/officeDocument/2006/relationships/slide" Target="slide25.xml"/><Relationship Id="rId23" Type="http://schemas.openxmlformats.org/officeDocument/2006/relationships/slide" Target=""/><Relationship Id="rId24" Type="http://schemas.openxmlformats.org/officeDocument/2006/relationships/slide" Target="slide27.xml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31.xml"/><Relationship Id="rId29" Type="http://schemas.openxmlformats.org/officeDocument/2006/relationships/slide" Target=""/><Relationship Id="rId30" Type="http://schemas.openxmlformats.org/officeDocument/2006/relationships/slide" Target="slide33.xml"/><Relationship Id="rId31" Type="http://schemas.openxmlformats.org/officeDocument/2006/relationships/slide" Target=""/><Relationship Id="rId32" Type="http://schemas.openxmlformats.org/officeDocument/2006/relationships/slide" Target="slide35.xml"/><Relationship Id="rId33" Type="http://schemas.openxmlformats.org/officeDocument/2006/relationships/slide" Target=""/><Relationship Id="rId34" Type="http://schemas.openxmlformats.org/officeDocument/2006/relationships/slide" Target="slide37.xml"/><Relationship Id="rId35" Type="http://schemas.openxmlformats.org/officeDocument/2006/relationships/slide" Target=""/><Relationship Id="rId36" Type="http://schemas.openxmlformats.org/officeDocument/2006/relationships/slide" Target="slide39.xml"/><Relationship Id="rId37" Type="http://schemas.openxmlformats.org/officeDocument/2006/relationships/slide" Target=""/><Relationship Id="rId38" Type="http://schemas.openxmlformats.org/officeDocument/2006/relationships/slide" Target="slide41.xml"/><Relationship Id="rId39" Type="http://schemas.openxmlformats.org/officeDocument/2006/relationships/slide" Target=""/><Relationship Id="rId40" Type="http://schemas.openxmlformats.org/officeDocument/2006/relationships/slide" Target="slide43.xml"/><Relationship Id="rId41" Type="http://schemas.openxmlformats.org/officeDocument/2006/relationships/slide" Target=""/><Relationship Id="rId42" Type="http://schemas.openxmlformats.org/officeDocument/2006/relationships/slide" Target="slide45.xml"/><Relationship Id="rId43" Type="http://schemas.openxmlformats.org/officeDocument/2006/relationships/slide" Target=""/><Relationship Id="rId44" Type="http://schemas.openxmlformats.org/officeDocument/2006/relationships/slide" Target="slide47.xml"/><Relationship Id="rId45" Type="http://schemas.openxmlformats.org/officeDocument/2006/relationships/slide" Target=""/><Relationship Id="rId46" Type="http://schemas.openxmlformats.org/officeDocument/2006/relationships/slide" Target="slide49.xml"/><Relationship Id="rId47" Type="http://schemas.openxmlformats.org/officeDocument/2006/relationships/slide" Target=""/><Relationship Id="rId48" Type="http://schemas.openxmlformats.org/officeDocument/2006/relationships/slide" Target="slide51.xml"/><Relationship Id="rId49" Type="http://schemas.openxmlformats.org/officeDocument/2006/relationships/slide" Target=""/><Relationship Id="rId50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6"/>
          <p:cNvGrpSpPr/>
          <p:nvPr/>
        </p:nvGrpSpPr>
        <p:grpSpPr>
          <a:xfrm>
            <a:off x="685800" y="4724280"/>
            <a:ext cx="5714640" cy="1601640"/>
            <a:chOff x="685800" y="4724280"/>
            <a:chExt cx="5714640" cy="1601640"/>
          </a:xfrm>
        </p:grpSpPr>
        <p:sp>
          <p:nvSpPr>
            <p:cNvPr id="493" name="WordArt 4"/>
            <p:cNvSpPr txBox="1"/>
            <p:nvPr/>
          </p:nvSpPr>
          <p:spPr>
            <a:xfrm>
              <a:off x="685800" y="4724280"/>
              <a:ext cx="571464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Civics</a:t>
              </a:r>
              <a:endPara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94" name="Text Box 5"/>
            <p:cNvSpPr/>
            <p:nvPr/>
          </p:nvSpPr>
          <p:spPr>
            <a:xfrm>
              <a:off x="1357920" y="5805720"/>
              <a:ext cx="429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By Folwell Dunbar, Co-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Blank template by: Richard W. Lipham Waltrip 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AutoShape 7"/>
          <p:cNvSpPr/>
          <p:nvPr/>
        </p:nvSpPr>
        <p:spPr>
          <a:xfrm>
            <a:off x="3654360" y="2513160"/>
            <a:ext cx="183204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32" y="9600"/>
                </a:moveTo>
                <a:lnTo>
                  <a:pt x="22498" y="1350"/>
                </a:lnTo>
              </a:path>
              <a:path w="21600" h="21600">
                <a:moveTo>
                  <a:pt x="22498" y="0"/>
                </a:moveTo>
                <a:lnTo>
                  <a:pt x="22498" y="21600"/>
                </a:lnTo>
              </a:path>
            </a:pathLst>
          </a:custGeom>
          <a:solidFill>
            <a:srgbClr val="3366ff"/>
          </a:solidFill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 play the game, click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8">
            <a:hlinkClick r:id="" action="ppaction://hlinkshowjump?jump=nextslide"/>
          </p:cNvPr>
          <p:cNvSpPr/>
          <p:nvPr/>
        </p:nvSpPr>
        <p:spPr>
          <a:xfrm>
            <a:off x="3657600" y="251460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3076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080"/>
          <p:cNvSpPr/>
          <p:nvPr/>
        </p:nvSpPr>
        <p:spPr>
          <a:xfrm>
            <a:off x="1371600" y="1676520"/>
            <a:ext cx="641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“No taxation without representation”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533520" y="838080"/>
            <a:ext cx="822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document was created by American colonists. It created a weak government that could not collect taxes or raise an ar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1028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32"/>
          <p:cNvSpPr/>
          <p:nvPr/>
        </p:nvSpPr>
        <p:spPr>
          <a:xfrm>
            <a:off x="1295280" y="1981080"/>
            <a:ext cx="6416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762120" y="220968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are the Articles of Confeder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523880" y="160020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form of government was used by the ancient Gr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9220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1692000" y="2514600"/>
            <a:ext cx="595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democ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1371600" y="11430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period when the colonial settlers fought to end British rule in Amer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172800" y="2590920"/>
            <a:ext cx="918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American Revol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053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1828800" y="1828800"/>
            <a:ext cx="563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document stated that the 13 colonies were free from British 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752480" y="1828800"/>
            <a:ext cx="6019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declaration of Independe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3077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752480" y="1295280"/>
            <a:ext cx="6477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A system of government in which a group of people in a territory are ruled by a sovereign power in a different terri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40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21"/>
          <p:cNvSpPr/>
          <p:nvPr/>
        </p:nvSpPr>
        <p:spPr>
          <a:xfrm>
            <a:off x="151200" y="304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22"/>
          <p:cNvSpPr/>
          <p:nvPr/>
        </p:nvSpPr>
        <p:spPr>
          <a:xfrm>
            <a:off x="1905120" y="304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0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3"/>
          <p:cNvSpPr/>
          <p:nvPr/>
        </p:nvSpPr>
        <p:spPr>
          <a:xfrm>
            <a:off x="3657600" y="15228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orld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24"/>
          <p:cNvSpPr/>
          <p:nvPr/>
        </p:nvSpPr>
        <p:spPr>
          <a:xfrm>
            <a:off x="54864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orld Gov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25"/>
          <p:cNvSpPr/>
          <p:nvPr/>
        </p:nvSpPr>
        <p:spPr>
          <a:xfrm>
            <a:off x="7391520" y="380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286000" y="1447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Colonialis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30"/>
          <p:cNvSpPr/>
          <p:nvPr/>
        </p:nvSpPr>
        <p:spPr>
          <a:xfrm>
            <a:off x="609480" y="2057400"/>
            <a:ext cx="822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belief that power belongs to the people and those that they choose to represent th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371600" y="2057400"/>
            <a:ext cx="6416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Popular Sovereignt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57200" y="13669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form of government gives citizens the power to elect representatives including a presid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1028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32"/>
          <p:cNvSpPr/>
          <p:nvPr/>
        </p:nvSpPr>
        <p:spPr>
          <a:xfrm>
            <a:off x="1371600" y="19810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presidential democ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1523880" y="1295280"/>
            <a:ext cx="6172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South Asian country has both a dictator as well as a single part gover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2057400" y="1523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North Kore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2053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1219320" y="1447920"/>
            <a:ext cx="632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North American country has a prime minister as its head of st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1371600" y="2438280"/>
            <a:ext cx="6416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Canad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2054">
            <a:hlinkClick r:id="" action="ppaction://hlinkshowjump?jump=nextslide"/>
          </p:cNvPr>
          <p:cNvSpPr/>
          <p:nvPr/>
        </p:nvSpPr>
        <p:spPr>
          <a:xfrm>
            <a:off x="75438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055"/>
          <p:cNvSpPr/>
          <p:nvPr/>
        </p:nvSpPr>
        <p:spPr>
          <a:xfrm>
            <a:off x="457200" y="1219320"/>
            <a:ext cx="822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one person of power in this form of government passes power from generation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57200" y="220968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Britain had this form of government when it ruled over the 13 colon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3076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080"/>
          <p:cNvSpPr/>
          <p:nvPr/>
        </p:nvSpPr>
        <p:spPr>
          <a:xfrm>
            <a:off x="1295280" y="22860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Monarc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533520" y="16765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Hispanic Caribbean island has a single party state and is considered to have a dictator as we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8196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199"/>
          <p:cNvSpPr/>
          <p:nvPr/>
        </p:nvSpPr>
        <p:spPr>
          <a:xfrm>
            <a:off x="8476560" y="228600"/>
            <a:ext cx="454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8201"/>
          <p:cNvSpPr/>
          <p:nvPr/>
        </p:nvSpPr>
        <p:spPr>
          <a:xfrm>
            <a:off x="1219320" y="182880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Cub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533520" y="30492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country is considered one of the most powerful countries in the world and just recently elected its first African American Presid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100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2133720" y="2362320"/>
            <a:ext cx="52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United States of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2053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2054"/>
          <p:cNvSpPr/>
          <p:nvPr/>
        </p:nvSpPr>
        <p:spPr>
          <a:xfrm>
            <a:off x="457200" y="1071720"/>
            <a:ext cx="822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form of government gives the people the power to elect representatives who then select a Prime Minister to represent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1143000" y="1752480"/>
            <a:ext cx="6416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parliamentary democ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30"/>
          <p:cNvSpPr/>
          <p:nvPr/>
        </p:nvSpPr>
        <p:spPr>
          <a:xfrm>
            <a:off x="457200" y="10717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 this form of government one person holds all of the power. Most often this person take power by fo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1028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34"/>
          <p:cNvSpPr/>
          <p:nvPr/>
        </p:nvSpPr>
        <p:spPr>
          <a:xfrm>
            <a:off x="1447920" y="1752480"/>
            <a:ext cx="6416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dictatorship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57200" y="10717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 this form of government the constitution of the party only allows for one political par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1295280" y="24382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What is a Monarc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1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066680" y="1676520"/>
            <a:ext cx="641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Single-Party sta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457200" y="10717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middle eastern country is one of the richest in the world do to its petroleum/oil and is ruled by a kin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034"/>
          <p:cNvSpPr/>
          <p:nvPr/>
        </p:nvSpPr>
        <p:spPr>
          <a:xfrm>
            <a:off x="1295280" y="2133720"/>
            <a:ext cx="6416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Saudi Ara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457200" y="1071720"/>
            <a:ext cx="82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youth based organization is based in Jamaica Pl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1066680" y="228600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Hyde Square Task For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457200" y="107172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HSTF went to these two city officials with their plan for a new history cour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838080" y="1371600"/>
            <a:ext cx="6416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Mayor and Superintendent of B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30"/>
          <p:cNvSpPr/>
          <p:nvPr/>
        </p:nvSpPr>
        <p:spPr>
          <a:xfrm>
            <a:off x="533520" y="167652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is the official title for the course that the HSTF crea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1295280" y="2133720"/>
            <a:ext cx="641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Civics for Boston You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030"/>
          <p:cNvSpPr/>
          <p:nvPr/>
        </p:nvSpPr>
        <p:spPr>
          <a:xfrm>
            <a:off x="533520" y="205740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se were the first two Boston Public high schools to offer the course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6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533520" y="145260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se first ten amendments that established basic rights such as freedom of speech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219320" y="1676520"/>
            <a:ext cx="641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English &amp; Madison Park High School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457200" y="1071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se were the problems identified by the HSTF as reasons for Civics course in high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914400" y="25146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Answers may v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1447920" y="22096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Bill of Righ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33520" y="145260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document created our current structure of government and the basic rights of all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1295280" y="2286000"/>
            <a:ext cx="641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United States Constit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6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33520" y="145260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phrase was used by frustrated colonists who were forced to pay taxes to the British monarc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Folwell Dunbar</dc:creator>
  <dc:description/>
  <dc:language>en-US</dc:language>
  <cp:lastModifiedBy>E. Chris Summerhill</cp:lastModifiedBy>
  <dcterms:modified xsi:type="dcterms:W3CDTF">2009-09-24T13:48:36Z</dcterms:modified>
  <cp:revision>157</cp:revision>
  <dc:subject/>
  <dc:title>Civil War Jeopardy</dc:title>
</cp:coreProperties>
</file>